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gradFill rotWithShape="0">
            <a:gsLst>
              <a:gs pos="0">
                <a:srgbClr val="224568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0" y="6022800"/>
            <a:ext cx="9144000" cy="142920"/>
          </a:xfrm>
          <a:prstGeom prst="rect">
            <a:avLst/>
          </a:prstGeom>
          <a:gradFill rotWithShape="0">
            <a:gsLst>
              <a:gs pos="0">
                <a:srgbClr val="224568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6" descr="C:\EST123782\Pública em Itautec P4 (est123782)\Logomarcas\Logousuais horiz - Dilma.jpg"/>
          <p:cNvPicPr/>
          <p:nvPr/>
        </p:nvPicPr>
        <p:blipFill>
          <a:blip r:embed="rId2"/>
          <a:stretch/>
        </p:blipFill>
        <p:spPr>
          <a:xfrm>
            <a:off x="4572000" y="6188040"/>
            <a:ext cx="411480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gradFill rotWithShape="0">
            <a:gsLst>
              <a:gs pos="0">
                <a:srgbClr val="224568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6022800"/>
            <a:ext cx="9144000" cy="142920"/>
          </a:xfrm>
          <a:prstGeom prst="rect">
            <a:avLst/>
          </a:prstGeom>
          <a:gradFill rotWithShape="0">
            <a:gsLst>
              <a:gs pos="0">
                <a:srgbClr val="224568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" descr="C:\EST123782\Pública em Itautec P4 (est123782)\Logomarcas\Logousuais horiz - Dilma.jpg"/>
          <p:cNvPicPr/>
          <p:nvPr/>
        </p:nvPicPr>
        <p:blipFill>
          <a:blip r:embed="rId2"/>
          <a:stretch/>
        </p:blipFill>
        <p:spPr>
          <a:xfrm>
            <a:off x="4572000" y="6188040"/>
            <a:ext cx="4114800" cy="593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Uso da logomarca da Codevasf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"/>
              </a:rPr>
              <a:t>Aprenda a utilizar a logomarca da Codevasf em publicações, patrocínios, placas e carro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Uso em veículos da Empresa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0" name="Picture 20" descr=""/>
          <p:cNvPicPr/>
          <p:nvPr/>
        </p:nvPicPr>
        <p:blipFill>
          <a:blip r:embed="rId1"/>
          <a:stretch/>
        </p:blipFill>
        <p:spPr>
          <a:xfrm>
            <a:off x="457200" y="2278080"/>
            <a:ext cx="4084560" cy="25988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Para sinalização de carros da Codevasf ou a serviço da mesma, é preciso colocar a logomarca, identificar a unidade administrativa e o local de uso do veícul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Uso em placas de obra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"/>
              </a:rPr>
              <a:t>Placas e adesivos indicativos de obras financiadas pelo Governo Federal devem ser confeccionadas e impressas segundo as especificações contidas no Manual de Placas de Obras da Secom (disponível em breve)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"/>
              </a:rPr>
              <a:t>Dá-se destaque à logo do Governo e a da Codevasf é colocada embaixo, com as outras marcas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124" name="Group 19"/>
          <p:cNvGrpSpPr/>
          <p:nvPr/>
        </p:nvGrpSpPr>
        <p:grpSpPr>
          <a:xfrm>
            <a:off x="5284800" y="1752480"/>
            <a:ext cx="2535120" cy="1981440"/>
            <a:chOff x="5284800" y="1752480"/>
            <a:chExt cx="2535120" cy="1981440"/>
          </a:xfrm>
        </p:grpSpPr>
        <p:pic>
          <p:nvPicPr>
            <p:cNvPr id="125" name="Picture 16" descr="C:\Documents and Settings\saenandoah.dutra\Meus documentos\Minhas imagens\Modelo Placa PAC.jpg"/>
            <p:cNvPicPr/>
            <p:nvPr/>
          </p:nvPicPr>
          <p:blipFill>
            <a:blip r:embed="rId1"/>
            <a:stretch/>
          </p:blipFill>
          <p:spPr>
            <a:xfrm>
              <a:off x="5284800" y="1752480"/>
              <a:ext cx="25351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8" descr="C:\Documents and Settings\saenandoah.dutra\Meus documentos\Governo Federal - Dilma\Marca GF_JPG_CMYK.jpg"/>
            <p:cNvPicPr/>
            <p:nvPr/>
          </p:nvPicPr>
          <p:blipFill>
            <a:blip r:embed="rId2"/>
            <a:stretch/>
          </p:blipFill>
          <p:spPr>
            <a:xfrm>
              <a:off x="6705720" y="2895480"/>
              <a:ext cx="957240" cy="34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21"/>
          <p:cNvGrpSpPr/>
          <p:nvPr/>
        </p:nvGrpSpPr>
        <p:grpSpPr>
          <a:xfrm>
            <a:off x="5283360" y="3886200"/>
            <a:ext cx="2538360" cy="1981080"/>
            <a:chOff x="5283360" y="3886200"/>
            <a:chExt cx="2538360" cy="1981080"/>
          </a:xfrm>
        </p:grpSpPr>
        <p:pic>
          <p:nvPicPr>
            <p:cNvPr id="128" name="Picture 13" descr="C:\Documents and Settings\saenandoah.dutra\Meus documentos\Minhas imagens\Placa Adutora Emergencial.jpg"/>
            <p:cNvPicPr/>
            <p:nvPr/>
          </p:nvPicPr>
          <p:blipFill>
            <a:blip r:embed="rId3"/>
            <a:stretch/>
          </p:blipFill>
          <p:spPr>
            <a:xfrm>
              <a:off x="5283360" y="3886200"/>
              <a:ext cx="25383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0" descr="C:\Documents and Settings\saenandoah.dutra\Meus documentos\Governo Federal - Dilma\Marca GF_JPG_CMYK.jpg"/>
            <p:cNvPicPr/>
            <p:nvPr/>
          </p:nvPicPr>
          <p:blipFill>
            <a:blip r:embed="rId4"/>
            <a:stretch/>
          </p:blipFill>
          <p:spPr>
            <a:xfrm>
              <a:off x="6672240" y="5019840"/>
              <a:ext cx="103356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Onde encontrar a logomarca?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A PR/ACP disponibiliza para todos, na intranet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Os manuais para uso das logomarcas da Codevasf e do Governo Federal;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Os arquivos da mesma em diversos formatos (como imagem ou em arquivo aberto, para gráficas; sozinha ou com a assinatura institucional completa, por exemplo)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Lá também estão disponíveis modelos de apresentação multimídia e de placas de obra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723960" y="15228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H="1">
            <a:off x="3657600" y="5334120"/>
            <a:ext cx="838080" cy="152280"/>
          </a:xfrm>
          <a:prstGeom prst="line">
            <a:avLst/>
          </a:prstGeom>
          <a:ln w="698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04920" y="1676160"/>
            <a:ext cx="533160" cy="609480"/>
          </a:xfrm>
          <a:prstGeom prst="line">
            <a:avLst/>
          </a:prstGeom>
          <a:ln w="698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A PR/ACP pode ajudar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"/>
              </a:rPr>
              <a:t>A Assessoria de Comunicação e Promoção Institucional (PR/ACP) está à disposição das áreas da Codevasf para tirar dúvidas sobre o uso das logomarcas da Empresa e do Governo Federal, revisar arquivos, fazer a diagramação de publicações e também personalizar placas de obra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Mais informaçõe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"/>
              </a:rPr>
              <a:t>Assessoria de Comunicação e Promoção Institucional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Tel.: 61 3312-4860 / 4769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E-mail: endomarketing@codevasf.gov.b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A logomarca da Codevasf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A logomarca da Codevasf foi atualizada em 2004 de forma a dar maior destaque ao nome da Empresa, que acabava de ampliar sua atuação para o Vale do Parnaíb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88" name="Picture 7" descr="D:\_PR-AM\Divulgação e promoção\Logos\Codevasf\logocodevasf01.jpg"/>
          <p:cNvPicPr/>
          <p:nvPr/>
        </p:nvPicPr>
        <p:blipFill>
          <a:blip r:embed="rId1"/>
          <a:stretch/>
        </p:blipFill>
        <p:spPr>
          <a:xfrm>
            <a:off x="838080" y="4005360"/>
            <a:ext cx="3598920" cy="79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:\_PR-AM\Divulgação e promoção\Logos\Codevasf\logocodevasf02.jpg"/>
          <p:cNvPicPr/>
          <p:nvPr/>
        </p:nvPicPr>
        <p:blipFill>
          <a:blip r:embed="rId2"/>
          <a:stretch/>
        </p:blipFill>
        <p:spPr>
          <a:xfrm>
            <a:off x="4876920" y="3962520"/>
            <a:ext cx="3598920" cy="826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988920" y="495288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ddddd"/>
                </a:solidFill>
                <a:latin typeface="Arial"/>
              </a:rPr>
              <a:t>Logomarca em alto rele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215320" y="495288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ddddd"/>
                </a:solidFill>
                <a:latin typeface="Arial"/>
              </a:rPr>
              <a:t>Logomarca simpl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Normas para utilização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Para uso da logomarca da Codevasf, temos que respeitar as regras definida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Pela Secretaria de Comunicação da Presidência da República (Secom), que regula o uso da marca do Governo Federal em publicações, internet, patrocínios, eventos e placas de obras;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Pela Codevasf, no que se refere ao uso da nossa própria logomarca (Resolução 373/2006)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Todas essas regras estão disponíveis na Intranet (Normativos &gt; Outros procedimentos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029"/>
          <p:cNvGrpSpPr/>
          <p:nvPr/>
        </p:nvGrpSpPr>
        <p:grpSpPr>
          <a:xfrm>
            <a:off x="2286000" y="76320"/>
            <a:ext cx="4572000" cy="5943600"/>
            <a:chOff x="2286000" y="76320"/>
            <a:chExt cx="4572000" cy="5943600"/>
          </a:xfrm>
        </p:grpSpPr>
        <p:pic>
          <p:nvPicPr>
            <p:cNvPr id="95" name="Picture 1027" descr="C:\Documents and Settings\saenandoah.dutra\Meus documentos\Minhas imagens\normas1.JPG"/>
            <p:cNvPicPr/>
            <p:nvPr/>
          </p:nvPicPr>
          <p:blipFill>
            <a:blip r:embed="rId1"/>
            <a:srcRect l="0" t="0" r="0" b="2485"/>
            <a:stretch/>
          </p:blipFill>
          <p:spPr>
            <a:xfrm>
              <a:off x="2287440" y="76320"/>
              <a:ext cx="4570560" cy="32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028" descr="C:\Documents and Settings\saenandoah.dutra\Meus documentos\Minhas imagens\normas2.JPG"/>
            <p:cNvPicPr/>
            <p:nvPr/>
          </p:nvPicPr>
          <p:blipFill>
            <a:blip r:embed="rId2"/>
            <a:srcRect l="0" t="0" r="0" b="3080"/>
            <a:stretch/>
          </p:blipFill>
          <p:spPr>
            <a:xfrm>
              <a:off x="2286000" y="3235320"/>
              <a:ext cx="4572000" cy="278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Line 1030"/>
          <p:cNvSpPr/>
          <p:nvPr/>
        </p:nvSpPr>
        <p:spPr>
          <a:xfrm>
            <a:off x="1727280" y="1057320"/>
            <a:ext cx="609480" cy="762120"/>
          </a:xfrm>
          <a:prstGeom prst="line">
            <a:avLst/>
          </a:prstGeom>
          <a:ln w="698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31"/>
          <p:cNvSpPr/>
          <p:nvPr/>
        </p:nvSpPr>
        <p:spPr>
          <a:xfrm>
            <a:off x="2438280" y="4343400"/>
            <a:ext cx="762120" cy="571680"/>
          </a:xfrm>
          <a:prstGeom prst="line">
            <a:avLst/>
          </a:prstGeom>
          <a:ln w="698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Quando usar a logomarca?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A logomarca da Codevasf deve ser utilizada, obrigatoriament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Em publicações para o público externo (jornais, revistas, livros, manuais técnicos, cartilhas etc.);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Apresentações multimídia (como esta);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Em qualquer material de divulgação (cartazes, banners, folders, bonés, camisetas etc.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Nos veículos da Empresa ou a serviço exclusivo da mesma;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Em placas de obras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Uso como assinatura em documento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Quando a logomarca da CODEVASF estiver representando a assinatura de um documento, esta deverá ser centralizada na altura e na largur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3" name="Picture 8" descr="C:\Documents and Settings\saenandoah.dutra\Meus documentos\Minhas imagens\logodocs.JPG"/>
          <p:cNvPicPr/>
          <p:nvPr/>
        </p:nvPicPr>
        <p:blipFill>
          <a:blip r:embed="rId1"/>
          <a:stretch/>
        </p:blipFill>
        <p:spPr>
          <a:xfrm>
            <a:off x="4648320" y="2766960"/>
            <a:ext cx="38098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Uso em documentos externo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Ao ser utilizada em publicações (livros, revistas, jornais...), material de divulgação (panfleto, folder, anúncios, cartazes...) ou  material promocional (bonés, camisetas...), deve ir acompanhada do nome do Ministério da Integração e da logomarca do Governo Federal (é a assinatura institucional), como definido no Manual de Uso da Marca do Governo Federal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6" name="Picture 14" descr="C:\EST123782\Pública em Itautec P4 (est123782)\Logomarcas\Logousuais horiz - Dilma.jpg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Uso com diversas marcas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ddddd"/>
                </a:solidFill>
                <a:latin typeface="Arial"/>
              </a:rPr>
              <a:t>Quando a marca da Codevasf for aplicada com várias outras, o nível mais alto da Administração fica sempre à direita, respeitando o espaçamento entre marcas conforme definido no manual da Secom:</a:t>
            </a:r>
            <a:endParaRPr b="0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0" y="3809880"/>
            <a:ext cx="9144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8" descr="D:\_PR-AM\Espaço Cultura\Logomarca\logomarca Espaço Cultura.jpg"/>
          <p:cNvPicPr/>
          <p:nvPr/>
        </p:nvPicPr>
        <p:blipFill>
          <a:blip r:embed="rId1"/>
          <a:stretch/>
        </p:blipFill>
        <p:spPr>
          <a:xfrm>
            <a:off x="2063880" y="4065480"/>
            <a:ext cx="374400" cy="374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0"/>
          <p:cNvSpPr/>
          <p:nvPr/>
        </p:nvSpPr>
        <p:spPr>
          <a:xfrm>
            <a:off x="0" y="495288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C:\Documents and Settings\saenandoah.dutra\Meus documentos\Minhas imagens\Marca_Governo_Pernambuco.jpg"/>
          <p:cNvPicPr/>
          <p:nvPr/>
        </p:nvPicPr>
        <p:blipFill>
          <a:blip r:embed="rId2"/>
          <a:srcRect l="0" t="0" r="0" b="19606"/>
          <a:stretch/>
        </p:blipFill>
        <p:spPr>
          <a:xfrm>
            <a:off x="2819520" y="5029200"/>
            <a:ext cx="834840" cy="36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:\Documents and Settings\saenandoah.dutra\Meus documentos\Minhas imagens\logopetrolina.JPG"/>
          <p:cNvPicPr/>
          <p:nvPr/>
        </p:nvPicPr>
        <p:blipFill>
          <a:blip r:embed="rId3"/>
          <a:stretch/>
        </p:blipFill>
        <p:spPr>
          <a:xfrm>
            <a:off x="1247760" y="5029200"/>
            <a:ext cx="1419120" cy="4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C:\EST123782\Pública em Itautec P4 (est123782)\Logomarcas\Logousuais horiz - Dilma.jpg"/>
          <p:cNvPicPr/>
          <p:nvPr/>
        </p:nvPicPr>
        <p:blipFill>
          <a:blip r:embed="rId4"/>
          <a:stretch/>
        </p:blipFill>
        <p:spPr>
          <a:xfrm>
            <a:off x="2819520" y="3886200"/>
            <a:ext cx="5105160" cy="73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C:\EST123782\Pública em Itautec P4 (est123782)\Logomarcas\Logousuais horiz - Dilma.jpg"/>
          <p:cNvPicPr/>
          <p:nvPr/>
        </p:nvPicPr>
        <p:blipFill>
          <a:blip r:embed="rId5"/>
          <a:stretch/>
        </p:blipFill>
        <p:spPr>
          <a:xfrm>
            <a:off x="3809880" y="4952880"/>
            <a:ext cx="46483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Arial"/>
              </a:rPr>
              <a:t>Uso na vertical</a:t>
            </a:r>
            <a:endParaRPr b="1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Arial"/>
              </a:rPr>
              <a:t>Na vertical, a logo do Governo Federal ficará abaixo de todas as outras, organizadas segundo o nível de importância na estrutura governament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8" name="Picture 9" descr="C:\EST123782\Pública em Itautec P4 (est123782)\Logomarcas\Logousuais vert - Dilma.jpg"/>
          <p:cNvPicPr/>
          <p:nvPr/>
        </p:nvPicPr>
        <p:blipFill>
          <a:blip r:embed="rId1"/>
          <a:stretch/>
        </p:blipFill>
        <p:spPr>
          <a:xfrm>
            <a:off x="4648320" y="2413080"/>
            <a:ext cx="38098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2:40:57Z</dcterms:created>
  <dc:creator>Saenandoah.Dutra</dc:creator>
  <dc:description/>
  <dc:language>en-US</dc:language>
  <cp:lastModifiedBy>germannonote</cp:lastModifiedBy>
  <dcterms:modified xsi:type="dcterms:W3CDTF">2012-01-18T21:10:44Z</dcterms:modified>
  <cp:revision>62</cp:revision>
  <dc:subject/>
  <dc:title>Apresentação do PowerPoint</dc:title>
</cp:coreProperties>
</file>